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484-7430-4995-A93E-9DAC7580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186-43E1-4293-9A9D-E8EA0D92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0EA-69C8-473A-B664-59F6D790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E0F-6076-4667-9A9C-7516146E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79C5-DADD-49A7-B440-170909F8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C1C5-FB0A-4F00-847C-0C1C7F21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D1E4-9A15-44ED-BE7B-594EEA2B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865A-93C0-4970-A111-D1D32AE4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167B-4155-4F03-99D0-57CE2506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33A6-7577-4FC9-88BD-F67B043C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7554-6DD2-47C8-9160-93991462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C41-6540-47C1-A854-EE261AEB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9977-7947-4F94-9A66-751C8B17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FDF6-16AC-427A-A47A-4AE96BC0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9F4F-7B31-4C37-8716-EAFBC438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0B33-7E94-4B9F-9271-EE1FDDFA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A685-BD9D-4056-9959-9EBEDA4D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128-C58F-4902-A928-FA8CC3F3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C72-34FF-4E63-8125-D2926CEB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C37-5D5D-4142-98D3-0BEB031C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6FF-6C53-4CBB-B750-C36517ED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D4C-FCE4-4005-AEC0-F625E954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E1F-7629-4968-AA84-A5342DD2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241-156F-48E1-8439-6B7AE3F6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5b5d51"/>
              </a:gs>
              <a:gs pos="100000">
                <a:srgbClr val="686b5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75a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a4e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45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7366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c6f6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3d2a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936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5b7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D31A-E056-4E97-AD3B-15DBABD78211}" type="slidenum">
              <a:rPr b="0" lang="en-US" sz="1400" spc="-1" strike="noStrike">
                <a:solidFill>
                  <a:srgbClr val="dcdad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75a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a4e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45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7366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c6f6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cda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0367-1B06-4C1A-ADD2-7FDAB49CD7B6}" type="slidenum">
              <a:rPr b="0" lang="en-US" sz="1400" spc="-1" strike="noStrike">
                <a:solidFill>
                  <a:srgbClr val="dcdad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hyperlink" Target="http://www.freeplaymusic.com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eb.mit.edu/invent/iow/nobel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ab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828800" y="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"/>
              </a:rPr>
              <a:t>DYNAMIT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"/>
              <a:ea typeface="comic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415920" y="3962520"/>
            <a:ext cx="196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9240" y="3922560"/>
            <a:ext cx="17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dad0"/>
                </a:solidFill>
                <a:latin typeface="Arial"/>
              </a:rPr>
              <a:t>Enrico Esteban</a:t>
            </a: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dad0"/>
                </a:solidFill>
                <a:latin typeface="Arial"/>
              </a:rPr>
              <a:t>9/15/2011</a:t>
            </a: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dad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dad0"/>
                </a:solidFill>
                <a:latin typeface="Arial"/>
              </a:rPr>
              <a:t>Computer 25</a:t>
            </a: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1905120" cy="1887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 flipH="1">
            <a:off x="3200400" y="4038480"/>
            <a:ext cx="1757520" cy="1954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0" y="20574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03680" y="1789200"/>
            <a:ext cx="31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dad0"/>
                </a:solidFill>
                <a:latin typeface="Arial"/>
              </a:rPr>
              <a:t>Invented by: Alfred Noble</a:t>
            </a: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2590920"/>
            <a:ext cx="5181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dad0"/>
                </a:solidFill>
                <a:latin typeface="Arial"/>
              </a:rPr>
              <a:t>Music Free Play Music,</a:t>
            </a:r>
            <a:r>
              <a:rPr b="0" lang="en-US" sz="1800" spc="-1" strike="noStrike" u="sng">
                <a:solidFill>
                  <a:srgbClr val="dcdad0"/>
                </a:solidFill>
                <a:uFillTx/>
                <a:latin typeface="Arial"/>
              </a:rPr>
              <a:t>warewolf30</a:t>
            </a:r>
            <a:r>
              <a:rPr b="0" lang="en-US" sz="1800" spc="-1" strike="noStrike">
                <a:solidFill>
                  <a:srgbClr val="dcdad0"/>
                </a:solidFill>
                <a:latin typeface="Arial"/>
              </a:rPr>
              <a:t>, 9/23/2011,</a:t>
            </a: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5b7a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769608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781680" y="1523880"/>
            <a:ext cx="158436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9.07514E-006 L 0.39167 -0.37734 E">
                                      <p:cBhvr>
                                        <p:cTn id="10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0901 L -0.39896 0.33086 E">
                                      <p:cBhvr>
                                        <p:cTn id="14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Adler"/>
          <p:cNvPicPr/>
          <p:nvPr/>
        </p:nvPicPr>
        <p:blipFill>
          <a:blip r:embed="rId1"/>
          <a:stretch/>
        </p:blipFill>
        <p:spPr>
          <a:xfrm>
            <a:off x="0" y="0"/>
            <a:ext cx="9144000" cy="2817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127160" y="3236760"/>
            <a:ext cx="649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Lemelsons  MIT program, </a:t>
            </a:r>
            <a:r>
              <a:rPr b="0" lang="en-US" sz="3200" spc="-1" strike="noStrike" u="sng">
                <a:solidFill>
                  <a:srgbClr val="dcdad0"/>
                </a:solidFill>
                <a:uFillTx/>
                <a:latin typeface="Arial"/>
              </a:rPr>
              <a:t>Alfred Noble</a:t>
            </a: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, September 19, 2011, </a:t>
            </a:r>
            <a:r>
              <a:rPr b="0" lang="en-US" sz="3200" spc="-1" strike="noStrike" u="sng">
                <a:solidFill>
                  <a:srgbClr val="85b7a9"/>
                </a:solidFill>
                <a:uFillTx/>
                <a:latin typeface="Arial"/>
                <a:hlinkClick r:id="rId2"/>
              </a:rPr>
              <a:t>http://web.mit.edu/invent/iow/nobel.htm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51055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dad0"/>
                </a:solidFill>
                <a:latin typeface="Arial"/>
              </a:rPr>
              <a:t>He was the first person to invent a dynamite    </a:t>
            </a: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Invention: Dynamite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A dynamite is mixed nitroglycerin with silica and turned the liquid into malleable paste.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It can be use to explode rocks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Miners use dynamite to drill holes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It’s shape is a cylinder so its easy to put in  tight spaces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43200" y="4876920"/>
            <a:ext cx="17938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Inventor: Alfred Noble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Alfred Noble was an engineer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He knows 5 language Swedish, French, Russian, English ,and German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He was born in October 21, 1833 in Stockholm Sweden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They moved to Russia when he was young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When he got older he started experimenting nitroglycerin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75640" y="4782960"/>
            <a:ext cx="1722240" cy="17845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3:55:44Z</dcterms:created>
  <dc:creator>install</dc:creator>
  <dc:description/>
  <dc:language>en-US</dc:language>
  <cp:lastModifiedBy>install</cp:lastModifiedBy>
  <dcterms:modified xsi:type="dcterms:W3CDTF">2011-09-26T13:58:58Z</dcterms:modified>
  <cp:revision>8</cp:revision>
  <dc:subject/>
  <dc:title>Slide 1</dc:title>
</cp:coreProperties>
</file>